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366-D421-43CF-BD1D-E6F16EAE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C66-27EA-48B1-9D83-23AE6E9E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B04-D8C2-4BBE-9618-8131FFF4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560-9D14-484D-BD9A-A2999D7D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9F2-67DB-4DA4-8089-5AE08B81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9A9-1BBC-4908-B5DB-4E9C7D35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F52-F92C-46B5-A532-E3FC9BE0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6F6-5E36-490B-939D-FF55B18B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170-C90E-4CDB-A7B7-7D6FD38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C17-7B09-4C1A-8313-4C3A905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4D9-A086-4A46-B1CB-7F473AAA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2FF-96EF-4A9E-A906-D5C92042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26A-5B8A-4BB2-9D86-89B3E317B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848360" cy="936720"/>
          </a:xfrm>
          <a:prstGeom prst="rect">
            <a:avLst/>
          </a:prstGeom>
          <a:solidFill>
            <a:srgbClr val="0000ff">
              <a:alpha val="4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Welcome to Room 7’s assemb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932000" y="5445000"/>
            <a:ext cx="3754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333399"/>
                </a:solidFill>
                <a:latin typeface="Arial"/>
              </a:rPr>
              <a:t>Ry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932000" y="5445000"/>
            <a:ext cx="3754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333399"/>
                </a:solidFill>
                <a:latin typeface="Arial"/>
              </a:rPr>
              <a:t>J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932000" y="5445000"/>
            <a:ext cx="3754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333399"/>
                </a:solidFill>
                <a:latin typeface="Arial"/>
              </a:rPr>
              <a:t>Z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932000" y="5445000"/>
            <a:ext cx="3754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333399"/>
                </a:solidFill>
                <a:latin typeface="Arial"/>
              </a:rPr>
              <a:t>Quin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09:35Z</dcterms:created>
  <dc:creator>Computer</dc:creator>
  <dc:description/>
  <dc:language>en-US</dc:language>
  <cp:lastModifiedBy>Computer</cp:lastModifiedBy>
  <dcterms:modified xsi:type="dcterms:W3CDTF">2008-06-18T09:15:34Z</dcterms:modified>
  <cp:revision>2</cp:revision>
  <dc:subject/>
  <dc:title>Welcome to Room 7’s assembly</dc:title>
</cp:coreProperties>
</file>